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FAC-B22E-404E-B16B-5C0D6001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839-B009-49D5-BE17-19CDB991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256-55F9-47D7-96C9-EED2D399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044-09CE-4207-8DE3-F205ECFC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A2A8-6A39-422E-854A-4C07D4B4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FE1A-24FC-4081-9A12-298CFF08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570E-31BF-4A72-AA92-0193E598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6C27-33A7-4DF0-BFF7-619337E7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8056-32C8-477C-BC35-597A0B5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293D-3A76-4281-8003-DC649B62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D199-7CCA-4E7B-BC15-F1BC1386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1B8-BD22-4587-B9F9-05A49BCC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9A83-3E29-42A6-97D0-2B64D5BF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A004-A1E6-46FC-9D65-55124FD3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22BD-3AD7-4441-B340-8645B760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EE3F-5E9F-4BF3-9189-53788CA5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2F9E-158F-479A-B651-BA7D1BB1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C1D-1B56-4E10-A1CB-0415C056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B4E-9276-4BEF-9EF7-E408145B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039-D670-4F6F-BC74-A10F369C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01F-CBEF-426F-845A-77652CAF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992-6A0A-4D5E-8BC2-D68712BA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167-7FAC-416B-8741-E5A2CD91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28B-C723-448B-A5F3-5F4E266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Полилиния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5AC7-7285-4861-9EFB-0F7153006E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Группа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Полилиния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Полилиния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8E03-5A1F-4EC0-A292-15957672B2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01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Выпускная квалификационная работа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на тему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71280" y="155736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«Управление активами предприятия (на примере Филиала «Башнефть – Янаул» ОАО АНК «Башнефть»)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Научный руководител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д.э.н., профессор Галиаскаров Ф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Выполнила : Богданова Н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По итогам проведенного анализа предлагаются следующие рекомендации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в целях улучшения финансового состояния на предприятии необходимо предусмотреть  увеличение скорости поступления денежных средств, для выполнения этого мероприятия необходимо не допускать появления просроченной дебиторской задолженности, добиваться своевременного погашения текущей дебиторской задолженности и получения предоплат, авансов от подрядчиков и поставщиков. Особое внимание следует обратить на оценку состояния внутреннего контроля за погашением долгов дебиторами в соответствии с установленными каждому из них срока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предприятию необходимо не допускать авансовых платежей или сократить их до минимума, что достигается  путем исключения условия предоплаты в заключаемых договорах на поставку ТМЦ и выполнение подрядных рабо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9900"/>
                </a:solidFill>
                <a:latin typeface="Times New Roman"/>
              </a:rPr>
              <a:t>для оптимального использования имеющихся на предприятии ресурсов, которое позволит увеличить скорость оборачиваемости оборотных средств, необходимо уменьшать остатки запасов ТМЦ на складах, закупать только необходимые  и в нужном количестве, так как денежные средства с течением времени обесцениваютс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Содержа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Вве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1 Методика управления активами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1.1 Методы управления внеоборотными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2 Методы управления оборотными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1.3 Анализ лучших мировых практик в области управления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 Анализ управления активами в Филиале «Башнефть – Янаул» ОАО АНК «Башнефт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1 Краткая характеристика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2 Анализ финансового состояния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2.3 Оценка эффективности управления активами предприя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 Пути совершенствования управления активами в Филиале «Башнефть – Янаул» ОАО АНК «Башнефт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.1 Основные направления совершенствования управления дебиторской задолженност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.2 Управление денежными средст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3.3 Пути улучшения управления внеоборотными акти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Список использованных источник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Актуальность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Управление активами является важнейшим аспектом управления предприятием в целом, от которого зависит эффективность функционирования предприят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В условиях рынка изменились права предприятий в области управления активами, мера ответственности за качество (эффективность) их использования, т.к. под активами стали понимать авансированный в них капит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зменился подход к пониманию проблемы. Под активами, как объектом купли-продажи в настоящее время понимаются не только части имущественного комплекса, но и предприятие целиком. А это требует комплексного, объективного подхода к их оцен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Расширение законодательной базы дает возможность предприятиям эффективней использовать имущество, строить политику воспроизводства основных средств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Целью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данной работы является изучение основных проблем и методов управления активами, обзор мирового опыта по изучаемой тем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В соответствии с выбранной целью поставлены следующие </a:t>
            </a: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задачи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исследован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обоснование цели, задачи, критерии управления активами на основе использования миров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анализ финансового состояния предпри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анализ эффективности использования активов предпри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разработка рекомендаций по совершенствованию управления активами предприят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Объектом 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сследования является Филиал «Башнефть–Янаул» ОАО АНК «Башнефть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едметом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исследования служит система управления активами на предприя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Сущность управления активами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6" name="Organization Chart 11"/>
          <p:cNvGrpSpPr/>
          <p:nvPr/>
        </p:nvGrpSpPr>
        <p:grpSpPr>
          <a:xfrm>
            <a:off x="469800" y="835920"/>
            <a:ext cx="8140680" cy="5445720"/>
            <a:chOff x="469800" y="835920"/>
            <a:chExt cx="8140680" cy="5445720"/>
          </a:xfrm>
        </p:grpSpPr>
        <p:cxnSp>
          <p:nvCxnSpPr>
            <p:cNvPr id="97" name="_s1028"/>
            <p:cNvCxnSpPr>
              <a:stCxn id="98" idx="2"/>
              <a:endCxn id="99" idx="3"/>
            </p:cNvCxnSpPr>
            <p:nvPr/>
          </p:nvCxnSpPr>
          <p:spPr>
            <a:xfrm rot="10800000">
              <a:off x="2466360" y="5058720"/>
              <a:ext cx="232560" cy="915120"/>
            </a:xfrm>
            <a:prstGeom prst="bentConnector2">
              <a:avLst/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0" name="_s1029"/>
            <p:cNvCxnSpPr>
              <a:stCxn id="99" idx="0"/>
              <a:endCxn id="101" idx="3"/>
            </p:cNvCxnSpPr>
            <p:nvPr/>
          </p:nvCxnSpPr>
          <p:spPr>
            <a:xfrm flipV="1" rot="16200000">
              <a:off x="2316240" y="3663720"/>
              <a:ext cx="473760" cy="70200"/>
            </a:xfrm>
            <a:prstGeom prst="bentConnector3">
              <a:avLst>
                <a:gd name="adj1" fmla="val 24106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2" name="_s1030"/>
            <p:cNvCxnSpPr>
              <a:stCxn id="103" idx="0"/>
              <a:endCxn id="104" idx="3"/>
            </p:cNvCxnSpPr>
            <p:nvPr/>
          </p:nvCxnSpPr>
          <p:spPr>
            <a:xfrm flipV="1" rot="16200000">
              <a:off x="6550200" y="3630960"/>
              <a:ext cx="572400" cy="37080"/>
            </a:xfrm>
            <a:prstGeom prst="bentConnector3">
              <a:avLst>
                <a:gd name="adj1" fmla="val 19949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5" name="_s1031"/>
            <p:cNvCxnSpPr/>
            <p:nvPr/>
          </p:nvCxnSpPr>
          <p:spPr>
            <a:xfrm flipV="1" rot="16200000">
              <a:off x="4969440" y="365040"/>
              <a:ext cx="2094480" cy="3036240"/>
            </a:xfrm>
            <a:prstGeom prst="bentConnector3">
              <a:avLst>
                <a:gd name="adj1" fmla="val 6584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6" name="_s1032"/>
            <p:cNvCxnSpPr/>
            <p:nvPr/>
          </p:nvCxnSpPr>
          <p:spPr>
            <a:xfrm flipH="1" flipV="1" rot="5400000">
              <a:off x="2017080" y="510840"/>
              <a:ext cx="2081880" cy="2732400"/>
            </a:xfrm>
            <a:prstGeom prst="bentConnector3">
              <a:avLst>
                <a:gd name="adj1" fmla="val 6589"/>
              </a:avLst>
            </a:prstGeom>
            <a:ln w="28440">
              <a:solidFill>
                <a:srgbClr val="8c0000"/>
              </a:solidFill>
              <a:miter/>
            </a:ln>
          </p:spPr>
        </p:cxnSp>
        <p:sp>
          <p:nvSpPr>
            <p:cNvPr id="107" name="_s1033"/>
            <p:cNvSpPr/>
            <p:nvPr/>
          </p:nvSpPr>
          <p:spPr>
            <a:xfrm>
              <a:off x="3092400" y="836640"/>
              <a:ext cx="2614680" cy="103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330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План управлени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активами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4"/>
            <p:cNvSpPr/>
            <p:nvPr/>
          </p:nvSpPr>
          <p:spPr>
            <a:xfrm>
              <a:off x="684360" y="2851200"/>
              <a:ext cx="3733560" cy="61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Существующие актив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5"/>
            <p:cNvSpPr/>
            <p:nvPr/>
          </p:nvSpPr>
          <p:spPr>
            <a:xfrm>
              <a:off x="5540400" y="2824200"/>
              <a:ext cx="2614680" cy="539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Новые активы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6"/>
            <p:cNvSpPr/>
            <p:nvPr/>
          </p:nvSpPr>
          <p:spPr>
            <a:xfrm>
              <a:off x="4932360" y="3935520"/>
              <a:ext cx="3678120" cy="1555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66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.Оценка жизненного цикл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.Планирование и управлени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проекта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.Стратегия эксплуатации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и обслужива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7"/>
            <p:cNvSpPr/>
            <p:nvPr/>
          </p:nvSpPr>
          <p:spPr>
            <a:xfrm>
              <a:off x="469800" y="3935520"/>
              <a:ext cx="4114800" cy="1123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66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.Стратегия техобслужива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.Продление срока служб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.Модификация или замен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8"/>
            <p:cNvSpPr/>
            <p:nvPr/>
          </p:nvSpPr>
          <p:spPr>
            <a:xfrm>
              <a:off x="2698920" y="5591160"/>
              <a:ext cx="4114800" cy="690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0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Возможности управления активами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Line 37"/>
            <p:cNvSpPr/>
            <p:nvPr/>
          </p:nvSpPr>
          <p:spPr>
            <a:xfrm flipV="1">
              <a:off x="7251840" y="5517720"/>
              <a:ext cx="1440" cy="358920"/>
            </a:xfrm>
            <a:prstGeom prst="line">
              <a:avLst/>
            </a:prstGeom>
            <a:ln w="9360">
              <a:solidFill>
                <a:srgbClr val="8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9" name="Линия 36"/>
          <p:cNvSpPr/>
          <p:nvPr/>
        </p:nvSpPr>
        <p:spPr>
          <a:xfrm>
            <a:off x="6804000" y="5877000"/>
            <a:ext cx="432000" cy="0"/>
          </a:xfrm>
          <a:prstGeom prst="line">
            <a:avLst/>
          </a:prstGeom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Рентабельность активов предприят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1" name="Объект 4"/>
          <p:cNvGraphicFramePr/>
          <p:nvPr/>
        </p:nvGraphicFramePr>
        <p:xfrm>
          <a:off x="1525680" y="181620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1620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Чистая прибыль предприят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4" name="Объект 4"/>
          <p:cNvGraphicFramePr/>
          <p:nvPr/>
        </p:nvGraphicFramePr>
        <p:xfrm>
          <a:off x="409680" y="1409760"/>
          <a:ext cx="8385120" cy="51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409760"/>
                    <a:ext cx="83851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Динамика  стоимости внеоборотных и оборотных активов</a:t>
            </a:r>
            <a:br>
              <a:rPr sz="2000"/>
            </a:b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на 2006 – 2008гг., тыс. руб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7" name="Объект 4"/>
          <p:cNvGraphicFramePr/>
          <p:nvPr/>
        </p:nvGraphicFramePr>
        <p:xfrm>
          <a:off x="579600" y="1395360"/>
          <a:ext cx="7935840" cy="50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395360"/>
                    <a:ext cx="7935840" cy="50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Динамика дебиторской задолженности предприят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" name="Объект 4"/>
          <p:cNvGraphicFramePr/>
          <p:nvPr/>
        </p:nvGraphicFramePr>
        <p:xfrm>
          <a:off x="757080" y="1541520"/>
          <a:ext cx="780912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541520"/>
                    <a:ext cx="780912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38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385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4:20:13Z</dcterms:created>
  <dc:creator>Дина</dc:creator>
  <dc:description/>
  <dc:language>en-US</dc:language>
  <cp:lastModifiedBy>MORRIS</cp:lastModifiedBy>
  <dcterms:modified xsi:type="dcterms:W3CDTF">2010-07-13T10:46:59Z</dcterms:modified>
  <cp:revision>15</cp:revision>
  <dc:subject/>
  <dc:title>Богданова Наталья Владимировна  Выпускная квалификационная работа на тему:</dc:title>
</cp:coreProperties>
</file>